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AD9BD-DB27-410E-B1A3-0A614BF55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5C59B-6B0E-46C9-A8E2-31948BB87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15327-8B3B-4458-8B14-1FDD3352C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E1C5C-B31D-4C67-BC4C-6908E3B783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F8600-A6DE-4711-BFA2-D8B2316DCC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CCADA-2FE6-4EC6-A6F1-5E6EA8F8E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6798-9FB5-40B3-A784-D6B7977D9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CE265-7045-4704-ABB0-CDBF6D159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437920" y="-360"/>
            <a:ext cx="6705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EE2D-D546-424B-A215-4B44D0755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6BEB-63D7-4A5E-9BFB-12DC2746B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87E18-939C-4FCF-B2BE-8FCDEB6E0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A4D05-8681-42FD-8738-359C368039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04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04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02400" y="6454440"/>
            <a:ext cx="2840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47B8-96DF-42AE-A8DA-E31C9E126979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514600" y="0"/>
            <a:ext cx="6642000" cy="1219320"/>
          </a:xfrm>
          <a:prstGeom prst="rect">
            <a:avLst/>
          </a:prstGeom>
          <a:gradFill rotWithShape="0">
            <a:gsLst>
              <a:gs pos="0">
                <a:srgbClr val="ffcc00">
                  <a:alpha val="55294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57520" cy="7812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255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685800"/>
            <a:ext cx="2298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ENGR330-1 Engineer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ervice Projec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ligion in Hait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519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an Catholicism (80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testant (16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ptist (10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ntecostal (4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ventist (1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(1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ne (1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dou (50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402400" y="6454440"/>
            <a:ext cx="2840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033D-C1C6-43D6-8D16-F04273F54FB0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5EBDE-B6CB-487D-A1AB-708601E51E1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14600" y="0"/>
            <a:ext cx="6642000" cy="1219320"/>
          </a:xfrm>
          <a:prstGeom prst="rect">
            <a:avLst/>
          </a:prstGeom>
          <a:gradFill rotWithShape="0">
            <a:gsLst>
              <a:gs pos="0">
                <a:srgbClr val="ffcc00">
                  <a:alpha val="55294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57520" cy="781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255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685800"/>
            <a:ext cx="2298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ENGR330-1 Engineer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ervice Projec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atholicis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icial state relig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11-First Dioceses were started in Hai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60-Concordant between Haiti and the RC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chbishop appoin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64-Saint Martial Semin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line of the Catholic Church in Hai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96 and 1941-campaigns against Vodo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ing in the 1970s-incorporated folk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0 to today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90A8-5301-4CD2-8ADE-6ED31339F99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14600" y="0"/>
            <a:ext cx="6642000" cy="1219320"/>
          </a:xfrm>
          <a:prstGeom prst="rect">
            <a:avLst/>
          </a:prstGeom>
          <a:gradFill rotWithShape="0">
            <a:gsLst>
              <a:gs pos="0">
                <a:srgbClr val="ffcc00">
                  <a:alpha val="55294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57520" cy="781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255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685800"/>
            <a:ext cx="2298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ENGR330-1 Engineer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ervice Projec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aitian Vodou (history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 until 1685-practic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85-Code Noir-Louis XIV of F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t sa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t ca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791-Haitian Rev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C331-4155-4956-91F0-E7861C6DE7E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14600" y="0"/>
            <a:ext cx="6642000" cy="1219320"/>
          </a:xfrm>
          <a:prstGeom prst="rect">
            <a:avLst/>
          </a:prstGeom>
          <a:gradFill rotWithShape="0">
            <a:gsLst>
              <a:gs pos="0">
                <a:srgbClr val="ffcc00">
                  <a:alpha val="55294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57520" cy="781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255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685800"/>
            <a:ext cx="2298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ENGR330-1 Engineer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ervice Projec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aitian Vodou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West African relig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ities, spirits, and pri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d diety-Bondy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wa (Miste or Misteri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gans and Mamb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ncritis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AC3EE-59B8-44AC-8815-35275F93B9D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14600" y="0"/>
            <a:ext cx="6642000" cy="1219320"/>
          </a:xfrm>
          <a:prstGeom prst="rect">
            <a:avLst/>
          </a:prstGeom>
          <a:gradFill rotWithShape="0">
            <a:gsLst>
              <a:gs pos="0">
                <a:srgbClr val="ffcc00">
                  <a:alpha val="55294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57520" cy="781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255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685800"/>
            <a:ext cx="2298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ENGR330-1 Engineer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ervice Projec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ther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ha’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16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du'l-Bah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36-the vision coming to fru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l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ing in 192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37F6-9CD4-4D94-BD09-FA515F59104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14600" y="0"/>
            <a:ext cx="6642000" cy="1219320"/>
          </a:xfrm>
          <a:prstGeom prst="rect">
            <a:avLst/>
          </a:prstGeom>
          <a:gradFill rotWithShape="0">
            <a:gsLst>
              <a:gs pos="0">
                <a:srgbClr val="ffcc00">
                  <a:alpha val="55294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57520" cy="781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255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685800"/>
            <a:ext cx="2298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ENGR330-1 Engineer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ervice Projec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CDF74-9562-44E5-A05E-B8962F828CA9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 Wells</dc:creator>
  <dc:description/>
  <dc:language>en-US</dc:language>
  <cp:lastModifiedBy/>
  <cp:revision>0</cp:revision>
  <dc:subject/>
  <dc:title>Slide 1</dc:title>
</cp:coreProperties>
</file>